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2c92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6ADE-0297-4BA9-925F-A1FDE22597C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0DC6-85B9-4D9C-A850-1AABD9D94FE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143C-8B05-4A86-8A21-F4AE6495F61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E699-3891-4D75-841D-A7E8DDE2FB4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6B92-EEAC-43EC-BEF9-8FA8B027705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4A0D-3F7F-489E-A8FC-51FE2F72D4F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B16D-43F4-4956-A893-01D9E327450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2890-10E3-483C-87E9-613B84A71D9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E0A9-9A99-4463-83B3-A602DF717D9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BAB9-D187-4710-AB4F-E0194A6535A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9C71-E4D4-43D4-883B-5040081D3D1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9DC0-4DB0-4718-BB14-8B7601B6181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DA30-DFFC-45AA-B5A6-961AD976763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75DA-AF76-4C99-9B5C-EA6A9CC7CDA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F8A4-F758-45DD-9355-6FD841836C5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4060-0127-47BD-8128-DD212B7751B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4FCF-E1F7-4017-9AB2-50509C92F8A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BFBE-AFA5-42A7-892D-40979D5C65A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ADA5-19AC-4BB1-A781-74A6B00DF8C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F1C4-57CD-4B69-83CD-67560CED806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30F8-E68F-4DFC-B841-89AE3B7D36B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44B4-C3A1-4E17-B92C-C84C0F06ADA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5865-4CE6-4065-8A71-B380C3B01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B0B2-CC71-44FD-9C02-6CA21AB2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039C-8CA9-48E3-8FC3-B3D42545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276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860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8728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276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860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89CC-B02B-444E-966A-EB2F11A2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9FE8-15FB-4584-96E2-BA240B13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2D04-293C-46C8-83DB-AFD04097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2E0E-9929-4152-B37A-A3DA068B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010B-008A-47B9-98BF-CBCA99A4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48AB-61F2-4488-BABC-63DA3BDF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9962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903F-DD40-405B-A75B-0FF53731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6D8D-7B66-4CDA-B1E7-1EB4DA7B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6E24-443D-4846-94F0-B0B9BA80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488A-3E80-479B-98C8-1779E211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8B8C-AED9-4BB4-9282-5571857D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1F1D-6E27-4774-967A-EBEC55A4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2C42-9A51-4F0B-A5CD-3CCAB43B8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2276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5860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728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2276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5860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7322-99E0-4793-87EE-62C40A2C6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8E65-E50B-4359-A73B-22923B68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9962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72276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5860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8728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72276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5860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6C7A-2EB2-4FF4-990F-6A7F1325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D623-9BE8-4A54-B228-37CA01E6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9962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4968-F375-494A-92CA-3A2FF161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672C-180D-48A7-8A81-C2B51ED0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8667-3F45-443F-B5E2-BDEADC35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A0DB-159E-4C3A-9F9E-349C7554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c32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2c9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50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03640" y="259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rana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fld id="{729884D2-DC2F-4EA9-93E4-D70AAB6191AF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1187280" y="26028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22766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1"/>
          <p:cNvSpPr/>
          <p:nvPr/>
        </p:nvSpPr>
        <p:spPr>
          <a:xfrm>
            <a:off x="4572000" y="0"/>
            <a:ext cx="4572000" cy="2276640"/>
          </a:xfrm>
          <a:prstGeom prst="rect">
            <a:avLst/>
          </a:prstGeom>
          <a:solidFill>
            <a:srgbClr val="50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4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3352680" cy="1969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Users\AVC\Desktop\powerpoint\logo_MENDELU_CMYK-2.gif"/>
          <p:cNvPicPr/>
          <p:nvPr/>
        </p:nvPicPr>
        <p:blipFill>
          <a:blip r:embed="rId4"/>
          <a:stretch/>
        </p:blipFill>
        <p:spPr>
          <a:xfrm>
            <a:off x="1285920" y="5072040"/>
            <a:ext cx="1414440" cy="1108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2c9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50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38F1-89AB-4E36-BF0D-7193379E292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c32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187280" y="26028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2c9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50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684360" y="2723400"/>
            <a:ext cx="820728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32c92"/>
                </a:solidFill>
                <a:latin typeface="Arial"/>
                <a:ea typeface="Arial"/>
              </a:rPr>
              <a:t>Analýza aktuální zapojení ČR do konceptu Smart City a Smart Region v souvislosti s novými tre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32c92"/>
                </a:solidFill>
                <a:latin typeface="Arial"/>
                <a:ea typeface="Arial"/>
              </a:rPr>
              <a:t>Libor Gre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32c92"/>
                </a:solidFill>
                <a:latin typeface="Arial"/>
                <a:ea typeface="Arial"/>
              </a:rPr>
              <a:t>Stanislav Volčí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C:\Users\spravce\Downloads\loga_bila na magente.png"/>
          <p:cNvPicPr/>
          <p:nvPr/>
        </p:nvPicPr>
        <p:blipFill>
          <a:blip r:embed="rId1"/>
          <a:srcRect l="2580" t="9437" r="7451" b="411"/>
          <a:stretch/>
        </p:blipFill>
        <p:spPr>
          <a:xfrm>
            <a:off x="1692360" y="0"/>
            <a:ext cx="3456000" cy="1547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5148360" y="-27000"/>
            <a:ext cx="4013280" cy="1574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3"/>
          <a:stretch/>
        </p:blipFill>
        <p:spPr>
          <a:xfrm>
            <a:off x="536400" y="404640"/>
            <a:ext cx="722520" cy="7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744120" y="13413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ůměrná úroveň naplnění kritérií procesů PDCA implementace konceptu SC/R ve výběrovém souboru samosprávných krajů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pic>
        <p:nvPicPr>
          <p:cNvPr id="157" name="picture" descr=""/>
          <p:cNvPicPr/>
          <p:nvPr/>
        </p:nvPicPr>
        <p:blipFill>
          <a:blip r:embed="rId1"/>
          <a:stretch/>
        </p:blipFill>
        <p:spPr>
          <a:xfrm>
            <a:off x="1979640" y="2492280"/>
            <a:ext cx="5400720" cy="4321440"/>
          </a:xfrm>
          <a:prstGeom prst="rect">
            <a:avLst/>
          </a:prstGeom>
          <a:ln w="0">
            <a:noFill/>
          </a:ln>
        </p:spPr>
      </p:pic>
      <p:sp>
        <p:nvSpPr>
          <p:cNvPr id="158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                                                      2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44120" y="13413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ůměrná úroveň naplnění kritérií procesů PDCA implementace konceptu SC/R ve výběrovém souboru krajských měst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pic>
        <p:nvPicPr>
          <p:cNvPr id="160" name="picture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400720" cy="4321080"/>
          </a:xfrm>
          <a:prstGeom prst="rect">
            <a:avLst/>
          </a:prstGeom>
          <a:ln w="0">
            <a:noFill/>
          </a:ln>
        </p:spPr>
      </p:pic>
      <p:sp>
        <p:nvSpPr>
          <p:cNvPr id="161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                                                      3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744120" y="13413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ůměrná úroveň naplnění kritérií procesů PDCA implementace SC/R ve výběrovém souboru bývalých okresních a ostatních měst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pic>
        <p:nvPicPr>
          <p:cNvPr id="163" name="picture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400720" cy="4319640"/>
          </a:xfrm>
          <a:prstGeom prst="rect">
            <a:avLst/>
          </a:prstGeom>
          <a:ln w="0">
            <a:noFill/>
          </a:ln>
        </p:spPr>
      </p:pic>
      <p:sp>
        <p:nvSpPr>
          <p:cNvPr id="164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                                                      4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250920" y="1052640"/>
          <a:ext cx="8569080" cy="5659200"/>
        </p:xfrm>
        <a:graphic>
          <a:graphicData uri="http://schemas.openxmlformats.org/drawingml/2006/table">
            <a:tbl>
              <a:tblPr/>
              <a:tblGrid>
                <a:gridCol w="1800000"/>
                <a:gridCol w="1081080"/>
                <a:gridCol w="1152720"/>
                <a:gridCol w="1224000"/>
                <a:gridCol w="1150920"/>
                <a:gridCol w="1044360"/>
                <a:gridCol w="1116000"/>
              </a:tblGrid>
              <a:tr h="684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a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ci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ánová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liz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ntro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rek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yklus PD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56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avskoslez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soč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omou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Úste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dubi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lín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ihoče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ředoče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zeň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álovéhrade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bere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ihomorav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rlovar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66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(v %)                                               5/6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50920" y="1052640"/>
          <a:ext cx="8569080" cy="5742000"/>
        </p:xfrm>
        <a:graphic>
          <a:graphicData uri="http://schemas.openxmlformats.org/drawingml/2006/table">
            <a:tbl>
              <a:tblPr/>
              <a:tblGrid>
                <a:gridCol w="1728720"/>
                <a:gridCol w="992160"/>
                <a:gridCol w="1174680"/>
                <a:gridCol w="1265400"/>
                <a:gridCol w="1133280"/>
                <a:gridCol w="1158840"/>
                <a:gridCol w="1116000"/>
              </a:tblGrid>
              <a:tr h="684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aj/mě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ci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ánová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liz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ntro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rek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yklus PD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ra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Středočesk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oravskoslezsk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Zlín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Třin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lzeňsk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ladá Bolesla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ardub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radec Králov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Litoměř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……</a:t>
                      </a: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Břecla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Rychnov n. Kně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Ch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68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(v %)                                               6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státu - plošná                                               1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836640"/>
          <a:ext cx="9144000" cy="5059440"/>
        </p:xfrm>
        <a:graphic>
          <a:graphicData uri="http://schemas.openxmlformats.org/drawingml/2006/table">
            <a:tbl>
              <a:tblPr/>
              <a:tblGrid>
                <a:gridCol w="514440"/>
                <a:gridCol w="7832520"/>
                <a:gridCol w="797040"/>
              </a:tblGrid>
              <a:tr h="5364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vytvoření jasného strategického rámce implementace konceptu SC/R na úrovni státu v oblastech národního záj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144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národní strategii pro rozvoj konceptu SC/R v hlavních cílových oblastech.  Strategie by měla zahrnovat cíle a přístupy státu v následujících segmentech (prosíme o zatržení  relevantní oblasti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602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Inovace a rozvoj podnikání (Smart akcelerátory, průmysl 4.0, sdílená ekonomika 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76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ICT a efektivní správa území (městské sítě, wi-fi, E-government, E-komunikace, centrální řídící jednotky, digitalizovaná městská data/passporty, open data..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364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Udržitelná energetika (energetický management, smart-grid systémy, kogenerační jednotky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160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Udržitelná mobilita (doprava a dopravní systémy, e-mobilita, cyklodoprava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364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Životní prostředí a udržitelné hospodaření s přírodními zdroji (voda, odpady, znečištění, veřejná zeleň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175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) Zdravotnictví, bezpečnost a sociální služb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160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) Vzdělávání a s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157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) Kultura a cestovní r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367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ytvářet novou strategii, ale odstranit duplicity stávajících strategií definované pro jednotlivé oblasti a zahrnout SC/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0" y="730080"/>
          <a:ext cx="9180360" cy="6031080"/>
        </p:xfrm>
        <a:graphic>
          <a:graphicData uri="http://schemas.openxmlformats.org/drawingml/2006/table">
            <a:tbl>
              <a:tblPr/>
              <a:tblGrid>
                <a:gridCol w="473040"/>
                <a:gridCol w="8131320"/>
                <a:gridCol w="576000"/>
              </a:tblGrid>
              <a:tr h="79236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rozpracování regionálních strategií (v návaznosti na národní strategii, zohledňujících specifika rozvoje území) strategií pro rozvoj konceptu SC/R pro následující segmenty (respondenti zatrhnou relevantní oblasti konceptu SC/R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714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Inovace a rozvoj podnikání (Smart akcelerátory,průmysl 4.0,sdílená ekonomika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09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ICT a efektivní správa území (městské sítě, wi-fi, E-government, E-komunikace, centrální řídící jednotky, digitalizovaná městská data/pasporty, open data..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Udržitelná energetika (energetický management, smart-grid systémy, kogenerační jednotky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714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Udržitelná mobilita (doprava a dopravní systémy, e-mobilita, cyklodoprava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Životní prostředí a udržitelné hospodaření s přírodními zdroji (voda, odpady, znečištění, veřejná zeleň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60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) Zdravotnictví, bezpečnost a sociální služb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60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) Vzdělávání a s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620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) Kultura a cestovní r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stranit resortismus ze strany státu, kdy přístup k implementaci konceptu Smart je specifický pro relevantní ministerstva (především MMR, MV, MPSV, MPO, MŽP), vytvořit jednotnou pracovní skupinu, nabízí se využití některé z existujících „Rad vlády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sně vymezit kompetence a odpovědnosti (odstranění resortismu ministerstev) za naplňování národní strategie + nezávislá expertní kom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09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dotační tituly pro podporu implementace konceptu SC/R v souladu se strategií ČR (jasně definovaná kritéria pro využití moderních technologií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09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stručnou a jasnou metodiku vztahující se ke způsobům čerpání prostředků pro realizaci národní strategie ve vymezených oblaste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státu- plošná                                                2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státu – plošná                                               3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0" y="836640"/>
          <a:ext cx="9144000" cy="5878440"/>
        </p:xfrm>
        <a:graphic>
          <a:graphicData uri="http://schemas.openxmlformats.org/drawingml/2006/table">
            <a:tbl>
              <a:tblPr/>
              <a:tblGrid>
                <a:gridCol w="468360"/>
                <a:gridCol w="7864560"/>
                <a:gridCol w="811080"/>
              </a:tblGrid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rozvoj jednotné komunikační platformy a sdílení informací  (například MMR ve spolupráci se Svazem měst a obcí a dalšími iniciativami) s možností osobního kontaktu (expertního poradenství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kytovat informace o podmínkách realizace národní strategie SC/R -poskytování poradenského servisu -  možnost osobního kontaktu a konkrétního expertního poradenství pro specifické podmínky obce/region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56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ále podporovat možnost  seznámit  se s příklady dobré prax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53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/ pro kategorii „menších měst“ především v rámci Č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42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 pro „větší města“ jak v rámci ČR, tak i v zahranič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110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a zajistit aktualizaci zásobníku/databáze ověřených řešení pro jednotlivé oblasti implementace konceptu SC/R a firem, které řešení úspěšně realizovaly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56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pracovat jednoduchou metodickou pomůcku (motivační, iniciační charakt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ěřit se na implementaci konceptu SC/R na státní úrovni, tzn. vytvořit „Smart stát“,  a to především pro oblast státní správy (ID občanů, ITC a efektivní výkon státní správ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556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ovat osvětu a vzdělává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lovat povědomí o konceptu Smart prostřednictvím osvětové činnosti, PR (propagace) konceptu SC/R ze strany stá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ovat vzdělávání v oblasti SC/R (cílová skupina děti  - ZŠ; SŠ, odborníci na VŠ, celoživotní vzdělávání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měst - specifická                                         1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-25560" y="836640"/>
          <a:ext cx="9144000" cy="4832280"/>
        </p:xfrm>
        <a:graphic>
          <a:graphicData uri="http://schemas.openxmlformats.org/drawingml/2006/table">
            <a:tbl>
              <a:tblPr/>
              <a:tblGrid>
                <a:gridCol w="684360"/>
                <a:gridCol w="7920000"/>
                <a:gridCol w="539640"/>
              </a:tblGrid>
              <a:tr h="5349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kračovat v podpoře strategického plánování implementace konceptu SC/R na úrovni menších obcí (poradenství,lidské zdroje,finanční zdroj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9692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zapojení úředníků krajů/měst do jednotlivých fází implementace konceptu SC/R umožněním jejich finančního ohodnocení nad rámec stávajícího odměňování (např. dohody o provedení práce, při zapojení do projektů možnost získat úvazek větší než 1,0…atd.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93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možnosti stínování úředníků v případě zájmu o podrobné seznámení se s příkladem dobré prax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08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ovat kvalitní projektovou přípravu a zadávací dokumentaci projekt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632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ožnit financovat kvalitní projektovou přípravu investičních akc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85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poradenskou platformu pro spolupráci na zadávací dokumentaci pro projek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603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ě podporovat implementaci konceptu SC/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 rámci investičních dotačních titulů (jak na národní, tak i regionální úrovni) nastavit podmínky tak, aby využití těchto zdrojů financování umožňovalo „Smart řešení“ v souladu s národní/regionální strategií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vhodné programy a zjednodušit pravidla čerpání finančních zdrojů z Evropských fond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měst - specifická                                         2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0" y="836640"/>
          <a:ext cx="9144000" cy="5499000"/>
        </p:xfrm>
        <a:graphic>
          <a:graphicData uri="http://schemas.openxmlformats.org/drawingml/2006/table">
            <a:tbl>
              <a:tblPr/>
              <a:tblGrid>
                <a:gridCol w="611280"/>
                <a:gridCol w="7721640"/>
                <a:gridCol w="811080"/>
              </a:tblGrid>
              <a:tr h="338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fond pro financování pilotních projektů SC/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104472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ožnit financování pilotních projektů  (sdílení rizika, vhodný pro větší města)(jednoduchá a dynamická pravidla pro hodnocení projektů bez ohledu na oblast - kritéria hodnocení podle výsledných efektů projektů, připustit neúspěšnost projektu, výběr za pomocí expertní skupiny nebo referencí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systém inovačních voucherů pro podporu rozvoje těch Smart řešení, která jsou v souladu s národní/regionální strategií rozvoje konceptu SC/R (využitelný pro menší města, volnost ve výběru oblastí implementace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38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a jasně vymezit jasná pravidla a metodiku pro využívání PPP projekt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38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stranit legislativní barié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ést revizi (pro potřebu snazší implementace konceptu SC/R) zákona o veřejných zakázká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64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ožnit zapracování "prvků Smart technologií" (které zvyšují cenu a nejsou definovány nebo definovatelné v cenících) do projektů revitalizací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předpoklady pro preferenci zapojení místních firem do implementace konceptu SC/R či firem, které realizovaly předcházející etapu úspěšných řešení (omezit napadání a nekalou konkurenc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6760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žadovat podmínku otevřených řešení umožňujících kompatibilitu navazujících modulárních projektů financovaných z veřejn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32c92"/>
                </a:solidFill>
                <a:latin typeface="Arial"/>
              </a:rPr>
              <a:t>Osnova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Cíl  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Metodický postup řešení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Vyhodnocení procesu implementace konceptu Smart City/Smart Region v ČR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Doporučení na podporu implementace konceptu Smart City/Region v ČR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měst - specifická                                         3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836640"/>
          <a:ext cx="9144000" cy="1382760"/>
        </p:xfrm>
        <a:graphic>
          <a:graphicData uri="http://schemas.openxmlformats.org/drawingml/2006/table">
            <a:tbl>
              <a:tblPr/>
              <a:tblGrid>
                <a:gridCol w="611280"/>
                <a:gridCol w="7721640"/>
                <a:gridCol w="811080"/>
              </a:tblGrid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jistit, aby legislativa držela krok s technologickým pokrokem (např. definovat požadavky na autonomní dopravu a podobně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ovat formy soudně uznatelných dokumentů pro archivaci (mohou být v elektronické podobě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80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ovat minimální standardy Smart technologi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mbria"/>
              </a:rPr>
              <a:t>Děkujeme za pozornost</a:t>
            </a:r>
            <a:endParaRPr b="1" lang="en-US" sz="3200" spc="-1" strike="noStrike">
              <a:solidFill>
                <a:srgbClr val="c32c92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íl projektu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87280" y="177336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05050"/>
                </a:solidFill>
                <a:latin typeface="Arial"/>
              </a:rPr>
              <a:t>Cílem projektu bylo zmapovat aktuální stav a míru zapojení jednotlivých krajů, krajských měst a bývalých okresních měst do konceptu Smart City/Smart Region, zmapovat úroveň procesu implementace tohoto konceptu, názorů na potřebu jeho podpory a dle zjištění následně navrhnout vhodná opatření, jak jejich intenzitu zapojení do tohoto konceptu zvýšit. </a:t>
            </a:r>
            <a:endParaRPr b="0" lang="en-US" sz="2800" spc="-1" strike="noStrike">
              <a:solidFill>
                <a:srgbClr val="50505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7280" y="4392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1/5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87280" y="1295280"/>
            <a:ext cx="74995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imární šetření bylo koncipováno tak, aby umožňovalo získat informace využitelné pro komplexní mapování a komparaci úrovně implementace konceptu strategického řízení SC/R, participace, motivace, bariér, síťování, role vlády a potřeb podpory zvýšení míry implementace SC/R .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Kritéria a stupnice pro hodnocení míry zapojení měst/krajů do konceptu SC/R vychází z konceptu analýzy Demingova cyklu (PDCA), který je využíván pro evaluaci cyklu neustálého zlepšování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Rámec evaluace implementace konceptu SC/R sestával ze 48 hierarchicky uspořádaných komponent/kritérií, které byly rozděleny na 4 na sebe navazující vyšší celky procesu PDCA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Metodika byla upravena podle standardů ETSI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V úvodním dopise byl stručně objasněn mandát, účel a předmět výzkumu s žádostí o účast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187280" y="1486080"/>
            <a:ext cx="74995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Celkem bylo kontaktováno 13 zástupců Krajských úřadů, zástupci hlavního města Prahy, 13 zástupců krajských měst a 55 zástupců bývalých okresních a dalších měst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Následně byli zástupci krajských úřadů a měst opět kontaktováni telefonicky, kdy byl dojednán konkrétní termín schůzky a kontaktní osoby pověřené vedením města. V této iniciační fázi se  5 zástupců měst odmítlo z různých důvodů výzkumu zúčastnit  (9 %). Také se nepodařilo realizovat setkání se zástupci Jihomoravského kraje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o každý kraj/město zahrnuté do výzkumu byla provedena ex ante analytická příprava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46" name="Title 1"/>
          <p:cNvSpPr/>
          <p:nvPr/>
        </p:nvSpPr>
        <p:spPr>
          <a:xfrm>
            <a:off x="1187280" y="44280"/>
            <a:ext cx="6996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2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187280" y="1267920"/>
            <a:ext cx="74995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Primární úroveň mapování a hodnocení 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Semi-strukturované rozhovory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Následné expertní hodnocení procesu implementace konceptu SC/R s využitím analýzy PDCA cyklu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Výsledky rozhovoru byly spolu s výsledky analytické přípravné fáze zpracovány prostřednictvím kódování standardizovaných odpovědí do databáze výsledků šetření - „Karta města“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Názory a náměty představitelů krajů/měst pro podporu implementace konceptu SC/R shromážděné prostřednictvím řízených rozhovorů byly následně kategorizovány a sumarizovány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Celkový přehled navrhovaných opatření byl elektronicky zaslán k vyjádření všem představitelům krajů/měst, kteří se účastnili výzkumu + verifikace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48" name="Title 1"/>
          <p:cNvSpPr/>
          <p:nvPr/>
        </p:nvSpPr>
        <p:spPr>
          <a:xfrm>
            <a:off x="1187280" y="44280"/>
            <a:ext cx="6996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3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187280" y="141300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Sekundární úroveň - Expertní mapování procesu implementace konceptu Smart City/Region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Vzhledem k srovnatelné významnosti jednotlivých fází cyklu PDCA, která byla potvrzena výsledky expertního hodnocení metodou AHP byla v první úrovni hierarchické struktury přiřazena stejná váha 0,25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otože druhá úroveň hierarchické struktury využívá rozsáhlého souboru sub-kritérií, jejichž počet je pro jednotlivé fáze PDCA rozdílný, byla pro komplexní MCA hodnocení využita metoda postupného rozvrhu vah na základě alokace bodového hodnocení významnosti kritéria. 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1187280" y="44280"/>
            <a:ext cx="6996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4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187280" y="191628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Výsledná váha byla získána jako výsledek participativního hodnocení v expertní skupině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Pro dosažení srovnatelnosti významnosti souboru kritérií, byly váhy sub kritérií následně normovány tak, aby jejich součet byl roven celkové hodnotě kritéria na vyšší hierarchické úrovni.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Výsledné skóre bylo zjišťováno na základě normovaných hodnot výsledné databáze výsledků 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52" name="Title 1"/>
          <p:cNvSpPr/>
          <p:nvPr/>
        </p:nvSpPr>
        <p:spPr>
          <a:xfrm>
            <a:off x="1187280" y="44280"/>
            <a:ext cx="6996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5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713880" y="9669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stupem verifikovaná standardizovaná databáze odpovědí - matice (75 záznamů x 35 údajů), tj. 2625 zpracovaných údajů.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</p:txBody>
      </p:sp>
      <p:pic>
        <p:nvPicPr>
          <p:cNvPr id="154" name="picture" descr=""/>
          <p:cNvPicPr/>
          <p:nvPr/>
        </p:nvPicPr>
        <p:blipFill>
          <a:blip r:embed="rId1"/>
          <a:stretch/>
        </p:blipFill>
        <p:spPr>
          <a:xfrm>
            <a:off x="1979640" y="2519280"/>
            <a:ext cx="5400720" cy="4078440"/>
          </a:xfrm>
          <a:prstGeom prst="rect">
            <a:avLst/>
          </a:prstGeom>
          <a:ln w="0">
            <a:noFill/>
          </a:ln>
        </p:spPr>
      </p:pic>
      <p:sp>
        <p:nvSpPr>
          <p:cNvPr id="155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                                                      1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3:47:14Z</dcterms:created>
  <dc:creator>Pavla Soukopová</dc:creator>
  <dc:description/>
  <dc:language>en-US</dc:language>
  <cp:lastModifiedBy>Libor Grega</cp:lastModifiedBy>
  <dcterms:modified xsi:type="dcterms:W3CDTF">2019-03-22T12:27:34Z</dcterms:modified>
  <cp:revision>119</cp:revision>
  <dc:subject/>
  <dc:title>Snímek 1</dc:title>
</cp:coreProperties>
</file>