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C825-2E2C-44E7-B1AB-283679B9CC5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2365-66BC-4030-98F3-EA24BCC9D33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E657-DF7D-4457-ADC1-C4E14BF50F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081-CBAD-4924-97C3-8BD2F75D40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4ED0-2AF7-4BCD-A364-D794841BE3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6B9-6690-4EC9-A6A9-6C792F9D296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09DB-9651-4732-9E38-1142D53712C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78C9-929A-413F-B8D6-3A04934EFD2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4CFA-5A3C-416F-8848-C473DEADE8C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7516-890E-478E-BC38-446FBF18DB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8889-A6B1-4815-AD37-622DEA42F9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CD3D-39B1-4F70-880D-974A483D963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B5FB-BC4E-442C-A795-EFAF31A26E9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A996-407F-4366-BC9D-A390E588528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1627-936A-4DD0-A972-5C919FE54E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4A13-B693-44CC-9B61-5F99E057F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95BD-C0C6-4B9C-93CB-A9744C1C47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7D1A-7937-4394-B9AF-C04D6B3D73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9600-EE25-4E6F-BA40-2585FEFDE4E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9575-EF78-46BD-949B-4B134FE0C79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CE15-90C6-40D4-B520-2FBB4E3A4BC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17C7-6E0C-478E-87AC-39391D45F5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9001-0FE9-435E-9C9E-332F4A9A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885-3878-4402-89D2-1708A5EF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675C-1C9E-4B15-9A04-7F6C9548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579-A32D-41F3-AD88-2E78813D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8C09-8D50-461E-8745-F63996D5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F039-1391-4234-A0F0-2AA9C697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7A90-F8D6-4C98-8D03-2C6AFF3CB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A17CF-75A9-4A8B-9D65-71ECF7975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0952-FDE7-43C2-B319-ED48A3B8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EC13-12B6-4980-84DF-A57582B65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AE9C-7840-47E7-8513-08C3D3AE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9F3-9899-4F98-B9EC-AD95BA24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AC70-53CF-4E8C-9080-0EA2F78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04DA-963C-4EE9-A071-865D4AE4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5C48-31E1-46D8-BE0C-6A82C476C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CB8E-4675-4DC4-940B-37F09C201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93C1-2B27-44D9-AF34-A956412E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216E-4DDD-494D-993B-B6108F71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68C1-91CA-4557-BFBA-BBB11E26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22F-07F5-4B3D-9B2B-A0C5EACE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2003-880B-4EF2-9C4E-D9F4728C5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2E0-8630-42B2-B9C2-C7AC6DD9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09D0-02C7-4CCF-AFB9-A480A7C7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9DD2-565F-46C1-9152-0665C22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rana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fld id="{C3E186D8-09E1-4263-9264-2E30F9B870DF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2276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1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4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3352680" cy="196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AVC\Desktop\powerpoint\logo_MENDELU_CMYK-2.gif"/>
          <p:cNvPicPr/>
          <p:nvPr/>
        </p:nvPicPr>
        <p:blipFill>
          <a:blip r:embed="rId4"/>
          <a:stretch/>
        </p:blipFill>
        <p:spPr>
          <a:xfrm>
            <a:off x="1285920" y="5072040"/>
            <a:ext cx="1414440" cy="110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0B7F6-3E39-4D25-B414-EEA47148C0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32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c92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4"/>
          <p:cNvSpPr/>
          <p:nvPr/>
        </p:nvSpPr>
        <p:spPr>
          <a:xfrm>
            <a:off x="684360" y="2723400"/>
            <a:ext cx="820728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Analýza aktuální zapojení ČR do konceptu Smart City a Smart Region v souvislosti s novými 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Libor Gre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32c92"/>
                </a:solidFill>
                <a:latin typeface="Arial"/>
                <a:ea typeface="Arial"/>
              </a:rPr>
              <a:t>Stanislav Volčí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C:\Users\spravce\Downloads\loga_bila na magente.png"/>
          <p:cNvPicPr/>
          <p:nvPr/>
        </p:nvPicPr>
        <p:blipFill>
          <a:blip r:embed="rId1"/>
          <a:srcRect l="2580" t="9437" r="7451" b="411"/>
          <a:stretch/>
        </p:blipFill>
        <p:spPr>
          <a:xfrm>
            <a:off x="1692360" y="0"/>
            <a:ext cx="3456000" cy="1547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148360" y="-27000"/>
            <a:ext cx="4013280" cy="1574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3"/>
          <a:stretch/>
        </p:blipFill>
        <p:spPr>
          <a:xfrm>
            <a:off x="536400" y="404640"/>
            <a:ext cx="722520" cy="7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samosprávných krajů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7" name="picture" descr=""/>
          <p:cNvPicPr/>
          <p:nvPr/>
        </p:nvPicPr>
        <p:blipFill>
          <a:blip r:embed="rId1"/>
          <a:stretch/>
        </p:blipFill>
        <p:spPr>
          <a:xfrm>
            <a:off x="1979640" y="2492280"/>
            <a:ext cx="5400720" cy="4321440"/>
          </a:xfrm>
          <a:prstGeom prst="rect">
            <a:avLst/>
          </a:prstGeom>
          <a:ln w="0">
            <a:noFill/>
          </a:ln>
        </p:spPr>
      </p:pic>
      <p:sp>
        <p:nvSpPr>
          <p:cNvPr id="15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2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konceptu SC/R ve výběrovém souboru krajských měst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0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21080"/>
          </a:xfrm>
          <a:prstGeom prst="rect">
            <a:avLst/>
          </a:prstGeom>
          <a:ln w="0">
            <a:noFill/>
          </a:ln>
        </p:spPr>
      </p:pic>
      <p:sp>
        <p:nvSpPr>
          <p:cNvPr id="161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3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44120" y="13413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ůměrná úroveň naplnění kritérií procesů PDCA implementace SC/R ve výběrovém souboru bývalých okresních a ostatních měst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63" name="picture" descr=""/>
          <p:cNvPicPr/>
          <p:nvPr/>
        </p:nvPicPr>
        <p:blipFill>
          <a:blip r:embed="rId1"/>
          <a:stretch/>
        </p:blipFill>
        <p:spPr>
          <a:xfrm>
            <a:off x="1979640" y="2421000"/>
            <a:ext cx="5400720" cy="4319640"/>
          </a:xfrm>
          <a:prstGeom prst="rect">
            <a:avLst/>
          </a:prstGeom>
          <a:ln w="0">
            <a:noFill/>
          </a:ln>
        </p:spPr>
      </p:pic>
      <p:sp>
        <p:nvSpPr>
          <p:cNvPr id="164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4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50920" y="1052640"/>
          <a:ext cx="8569080" cy="5659200"/>
        </p:xfrm>
        <a:graphic>
          <a:graphicData uri="http://schemas.openxmlformats.org/drawingml/2006/table">
            <a:tbl>
              <a:tblPr/>
              <a:tblGrid>
                <a:gridCol w="1800000"/>
                <a:gridCol w="1081080"/>
                <a:gridCol w="1152720"/>
                <a:gridCol w="1224000"/>
                <a:gridCol w="1150920"/>
                <a:gridCol w="104436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avskoslez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ysoč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omou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Úst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dubi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ředoče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zeň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álovéhrad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berec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ihomorav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rlovar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6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(v %)                                               5/6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250920" y="1052640"/>
          <a:ext cx="8569080" cy="5742000"/>
        </p:xfrm>
        <a:graphic>
          <a:graphicData uri="http://schemas.openxmlformats.org/drawingml/2006/table">
            <a:tbl>
              <a:tblPr/>
              <a:tblGrid>
                <a:gridCol w="1728720"/>
                <a:gridCol w="992160"/>
                <a:gridCol w="1174680"/>
                <a:gridCol w="1265400"/>
                <a:gridCol w="1133280"/>
                <a:gridCol w="1158840"/>
                <a:gridCol w="1116000"/>
              </a:tblGrid>
              <a:tr h="684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raj/měs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ci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áno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l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ntr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rek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yklus PD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9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ra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Středoče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oravskoslez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Zlínsk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Třin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zeňsk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5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2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Mladá Boles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0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ardub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Hradec Králov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9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1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Litoměř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9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……</a:t>
                      </a: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Břecla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Rychnov n. Kně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h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68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(v %)                                               6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- plošná      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0" y="836640"/>
          <a:ext cx="9144000" cy="5059440"/>
        </p:xfrm>
        <a:graphic>
          <a:graphicData uri="http://schemas.openxmlformats.org/drawingml/2006/table">
            <a:tbl>
              <a:tblPr/>
              <a:tblGrid>
                <a:gridCol w="514440"/>
                <a:gridCol w="7832520"/>
                <a:gridCol w="797040"/>
              </a:tblGrid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vytvoření jasného strategického rámce implementace konceptu SC/R na úrovni státu v oblastech národního záj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1144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národní strategii pro rozvoj konceptu SC/R v hlavních cílových oblastech.  Strategie by měla zahrnovat cíle a přístupy státu v následujících segmentech (prosíme o zatržení  relevantní oblasti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2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 průmysl 4.0, sdílená ekonomika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76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4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75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157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367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vytvářet novou strategii, ale odstranit duplicity stávajících strategií definované pro jednotlivé oblasti a zahrnout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730080"/>
          <a:ext cx="9180360" cy="6031080"/>
        </p:xfrm>
        <a:graphic>
          <a:graphicData uri="http://schemas.openxmlformats.org/drawingml/2006/table">
            <a:tbl>
              <a:tblPr/>
              <a:tblGrid>
                <a:gridCol w="473040"/>
                <a:gridCol w="8131320"/>
                <a:gridCol w="576000"/>
              </a:tblGrid>
              <a:tr h="792360"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pracování regionálních strategií (v návaznosti na národní strategii, zohledňujících specifika rozvoje území) strategií pro rozvoj konceptu SC/R pro následující segmenty (respondenti zatrhnou relevantní oblasti konceptu SC/R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Inovace a rozvoj podnikání (Smart akcelerátory,průmysl 4.0,sdílená ekonomika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CT a efektivní správa území (městské sítě, wi-fi, E-government, E-komunikace, centrální řídící jednotky, digitalizovaná městská data/pasporty, open data..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Udržitelná energetika (energetický management, smart-grid systémy, kogenerační jednotky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71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Udržitelná mobilita (doprava a dopravní systémy, e-mobilita, cyklodoprava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Životní prostředí a udržitelné hospodaření s přírodními zdroji (voda, odpady, znečištění, veřejná zeleň …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) Zdravotnictví, bezpečnost a sociální služb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0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) Vzdělávání a s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262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) Kultura a cestovní ru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resortismus ze strany státu, kdy přístup k implementaci konceptu Smart je specifický pro relevantní ministerstva (především MMR, MV, MPSV, MPO, MŽP), vytvořit jednotnou pracovní skupinu, nabízí se využití některé z existujících „Rad vlády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sně vymezit kompetence a odpovědnosti (odstranění resortismu ministerstev) za naplňování národní strategie + nezávislá expertní kom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dotační tituly pro podporu implementace konceptu SC/R v souladu se strategií ČR (jasně definovaná kritéria pro využití moderních technologi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09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tručnou a jasnou metodiku vztahující se ke způsobům čerpání prostředků pro realizaci národní strategie ve vymezených oblaste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- plošná       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státu – plošná      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0" y="836640"/>
          <a:ext cx="9144000" cy="5878440"/>
        </p:xfrm>
        <a:graphic>
          <a:graphicData uri="http://schemas.openxmlformats.org/drawingml/2006/table">
            <a:tbl>
              <a:tblPr/>
              <a:tblGrid>
                <a:gridCol w="468360"/>
                <a:gridCol w="7864560"/>
                <a:gridCol w="811080"/>
              </a:tblGrid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rozvoj jednotné komunikační platformy a sdílení informací  (například MMR ve spolupráci se Svazem měst a obcí a dalšími iniciativami) s možností osobního kontaktu (expertního poradenství)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kytovat informace o podmínkách realizace národní strategie SC/R -poskytování poradenského servisu -  možnost osobního kontaktu a konkrétního expertního poradenství pro specifické podmínky obce/region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ále podporovat možnost  seznámit  se s příklady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32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/ pro kategorii „menších měst“ především v rámci Č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42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/ pro „větší města“ jak v rámci ČR, tak i v zahranič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1100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a zajistit aktualizaci zásobníku/databáze ověřených řešení pro jednotlivé oblasti implementace konceptu SC/R a firem, které řešení úspěšně realizovaly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pracovat jednoduchou metodickou pomůcku (motivační, iniciační charakt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měřit se na implementaci konceptu SC/R na státní úrovni, tzn. vytvořit „Smart stát“,  a to především pro oblast státní správy (ID občanů, ITC a efektivní výkon státní správ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556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osvětu a vzdělává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ilovat povědomí o konceptu Smart prostřednictvím osvětové činnosti, PR (propagace) konceptu SC/R ze strany stá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vzdělávání v oblasti SC/R (cílová skupina děti  - ZŠ; SŠ, odborníci na VŠ, celoživotní vzděláván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1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-25560" y="836640"/>
          <a:ext cx="9144000" cy="4832280"/>
        </p:xfrm>
        <a:graphic>
          <a:graphicData uri="http://schemas.openxmlformats.org/drawingml/2006/table">
            <a:tbl>
              <a:tblPr/>
              <a:tblGrid>
                <a:gridCol w="684360"/>
                <a:gridCol w="7920000"/>
                <a:gridCol w="539640"/>
              </a:tblGrid>
              <a:tr h="5349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kračovat v podpoře strategického plánování implementace konceptu SC/R na úrovni menších obcí (poradenství,lidské zdroje,finanční zdroj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969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zapojení úředníků krajů/měst do jednotlivých fází implementace konceptu SC/R umožněním jejich finančního ohodnocení nad rámec stávajícího odměňování (např. dohody o provedení práce, při zapojení do projektů možnost získat úvazek větší než 1,0…atd.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možnosti stínování úředníků v případě zájmu o podrobné seznámení se s příkladem dobré prax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80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rovat kvalitní projektovou přípravu a zadávací dokumentaci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at kvalitní projektovou přípravu investičních akc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585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oradenskou platformu pro spolupráci na zadávací dokumentaci pro projek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60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ě podporovat implementaci konceptu SC/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 rámci investičních dotačních titulů (jak na národní, tak i regionální úrovni) nastavit podmínky tak, aby využití těchto zdrojů financování umožňovalo „Smart řešení“ v souladu s národní/regionální strategií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vhodné programy a zjednodušit pravidla čerpání finančních zdrojů z Evropských fond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2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836640"/>
          <a:ext cx="9144000" cy="549900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fond pro financování pilotních projektů SC/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104472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financování pilotních projektů  (sdílení rizika, vhodný pro větší města)(jednoduchá a dynamická pravidla pro hodnocení projektů bez ohledu na oblast - kritéria hodnocení podle výsledných efektů projektů, připustit neúspěšnost projektu, výběr za pomocí expertní skupiny nebo referencí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systém inovačních voucherů pro podporu rozvoje těch Smart řešení, která jsou v souladu s národní/regionální strategií rozvoje konceptu SC/R (využitelný pro menší města, volnost ve výběru oblastí implementace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dpořit a jasně vymezit jasná pravidla a metodiku pro využívání PPP projekt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stranit legislativní barié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ést revizi (pro potřebu snazší implementace konceptu SC/R) zákona o veřejných zakázk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764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možnit zapracování "prvků Smart technologií" (které zvyšují cenu a nejsou definovány nebo definovatelné v cenících) do projektů revitalizací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7826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vořit předpoklady pro preferenci zapojení místních firem do implementace konceptu SC/R či firem, které realizovaly předcházející etapu úspěšných řešení (omezit napadání a nekalou konkurenc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  <a:tr h="67608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žadovat podmínku otevřených řešení umožňujících kompatibilitu navazujících modulárních projektů financovaných z veřejn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def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32c92"/>
                </a:solidFill>
                <a:latin typeface="Arial"/>
              </a:rPr>
              <a:t>Osnova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Cíl  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Metodický postup řešení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Vyhodnocení procesu implementace konceptu Smart City/Smart 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Doporučení na podporu implementace konceptu Smart City/Region v ČR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Doporučení na podporu implementace konceptu SC/R na úrovni měst - specifická                                         3/3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836640"/>
          <a:ext cx="9144000" cy="1382760"/>
        </p:xfrm>
        <a:graphic>
          <a:graphicData uri="http://schemas.openxmlformats.org/drawingml/2006/table">
            <a:tbl>
              <a:tblPr/>
              <a:tblGrid>
                <a:gridCol w="611280"/>
                <a:gridCol w="7721640"/>
                <a:gridCol w="811080"/>
              </a:tblGrid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istit, aby legislativa držela krok s technologickým pokrokem (např. definovat požadavky na autonomní dopravu a podobn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236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formy soudně uznatelných dokumentů pro archivaci (mohou být v elektronické podobě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040">
                <a:tc>
                  <a:txBody>
                    <a:bodyPr lIns="57960" rIns="579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b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ovat minimální standardy Smart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7960" rIns="579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960" marR="57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mbria"/>
              </a:rPr>
              <a:t>Děkujeme za pozornost</a:t>
            </a:r>
            <a:endParaRPr b="1" lang="en-US" sz="3200" spc="-1" strike="noStrike">
              <a:solidFill>
                <a:srgbClr val="c32c92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íl projektu 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87280" y="177336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05050"/>
                </a:solidFill>
                <a:latin typeface="Arial"/>
              </a:rPr>
              <a:t>Cílem projektu bylo zmapovat aktuální stav a míru zapojení jednotlivých krajů, krajských měst a bývalých okresních měst do konceptu Smart City/Smart Region, zmapovat úroveň procesu implementace tohoto konceptu, názorů na potřebu jeho podpory a dle zjištění následně navrhnout vhodná opatření, jak jejich intenzitu zapojení do tohoto konceptu zvýšit. </a:t>
            </a: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87280" y="4392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1/5</a:t>
            </a:r>
            <a:endParaRPr b="1" lang="en-US" sz="2400" spc="-1" strike="noStrike">
              <a:solidFill>
                <a:srgbClr val="c32c92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87280" y="1295280"/>
            <a:ext cx="7499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imární šetření bylo koncipováno tak, aby umožňovalo získat informace využitelné pro komplexní mapování a komparaci úrovně implementace konceptu strategického řízení SC/R, participace, motivace, bariér, síťování, role vlády a potřeb podpory zvýšení míry implementace SC/R .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Kritéria a stupnice pro hodnocení míry zapojení měst/krajů do konceptu SC/R vychází z konceptu analýzy Demingova cyklu (PDCA), který je využíván pro evaluaci cyklu neustálého zlepšování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Rámec evaluace implementace konceptu SC/R sestával ze 48 hierarchicky uspořádaných komponent/kritérií, které byly rozděleny na 4 na sebe navazující vyšší celky procesu PDCA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Metodika byla upravena podle standardů ETSI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 úvodním dopise byl stručně objasněn mandát, účel a předmět výzkumu s žádostí o úča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87280" y="1486080"/>
            <a:ext cx="74995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em bylo kontaktováno 13 zástupců Krajských úřadů, zástupci hlavního města Prahy, 13 zástupců krajských měst a 55 zástupců bývalých okresních a dalších měst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ě byli zástupci krajských úřadů a měst opět kontaktováni telefonicky, kdy byl dojednán konkrétní termín schůzky a kontaktní osoby pověřené vedením města. V této iniciační fázi se  5 zástupců měst odmítlo z různých důvodů výzkumu zúčastnit  (9 %). Také se nepodařilo realizovat setkání se zástupci Jihomoravského kraje.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 každý kraj/město zahrnuté do výzkumu byla provedena ex ante analytická příprava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6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2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187280" y="1267920"/>
            <a:ext cx="749952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imární úroveň mapování a hodnocení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Semi-strukturované rozhovor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sledné expertní hodnocení procesu implementace konceptu SC/R s využitím analýzy PDCA cyklu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ýsledky rozhovoru byly spolu s výsledky analytické přípravné fáze zpracovány prostřednictvím kódování standardizovaných odpovědí do databáze výsledků šetření - „Karta města“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Názory a náměty představitelů krajů/měst pro podporu implementace konceptu SC/R shromážděné prostřednictvím řízených rozhovorů byly následně kategorizovány a sumarizovány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Celkový přehled navrhovaných opatření byl elektronicky zaslán k vyjádření všem představitelům krajů/měst, kteří se účastnili výzkumu + verifikace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48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3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187280" y="141300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505050"/>
                </a:solidFill>
                <a:latin typeface="Arial"/>
              </a:rPr>
              <a:t>Sekundární úroveň - Expertní mapování procesu implementace konceptu Smart City/Region</a:t>
            </a:r>
            <a:endParaRPr b="0" lang="en-US" sz="25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Vzhledem k srovnatelné významnosti jednotlivých fází cyklu PDCA, která byla potvrzena výsledky expertního hodnocení metodou AHP byla v první úrovni hierarchické struktury přiřazena stejná váha 0,25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05050"/>
                </a:solidFill>
                <a:latin typeface="Arial"/>
              </a:rPr>
              <a:t>Protože druhá úroveň hierarchické struktury využívá rozsáhlého souboru sub-kritérií, jejichž počet je pro jednotlivé fáze PDCA rozdílný, byla pro komplexní MCA hodnocení využita metoda postupného rozvrhu vah na základě alokace bodového hodnocení významnosti kritéria.  </a:t>
            </a:r>
            <a:endParaRPr b="0" lang="en-US" sz="2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87280" y="191628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á váha byla získána jako výsledek participativního hodnocení v expertní skupině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o dosažení srovnatelnosti významnosti souboru kritérií, byly váhy sub kritérií následně normovány tak, aby jejich součet byl roven celkové hodnotě kritéria na vyšší hierarchické úrovni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Výsledné skóre bylo zjišťováno na základě normovaných hodnot výsledné databáze výsledků 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52" name="Title 1"/>
          <p:cNvSpPr/>
          <p:nvPr/>
        </p:nvSpPr>
        <p:spPr>
          <a:xfrm>
            <a:off x="1187280" y="44280"/>
            <a:ext cx="699624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Metodický postup řešení 5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713880" y="96696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em verifikovaná standardizovaná databáze odpovědí - matice (75 záznamů x 35 údajů), tj. 2625 zpracovaných údajů.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pic>
        <p:nvPicPr>
          <p:cNvPr id="154" name="picture" descr=""/>
          <p:cNvPicPr/>
          <p:nvPr/>
        </p:nvPicPr>
        <p:blipFill>
          <a:blip r:embed="rId1"/>
          <a:stretch/>
        </p:blipFill>
        <p:spPr>
          <a:xfrm>
            <a:off x="1979640" y="2519280"/>
            <a:ext cx="5400720" cy="4078440"/>
          </a:xfrm>
          <a:prstGeom prst="rect">
            <a:avLst/>
          </a:prstGeom>
          <a:ln w="0">
            <a:noFill/>
          </a:ln>
        </p:spPr>
      </p:pic>
      <p:sp>
        <p:nvSpPr>
          <p:cNvPr id="155" name="Nadpis 1"/>
          <p:cNvSpPr/>
          <p:nvPr/>
        </p:nvSpPr>
        <p:spPr>
          <a:xfrm>
            <a:off x="1339920" y="115920"/>
            <a:ext cx="6995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Vyhodnocení procesu implementace konceptu SC/R v ČR                                                        1/6                                                          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Pavla Soukopová</dc:creator>
  <dc:description/>
  <dc:language>en-US</dc:language>
  <cp:lastModifiedBy>Libor Grega</cp:lastModifiedBy>
  <dcterms:modified xsi:type="dcterms:W3CDTF">2019-03-22T12:27:34Z</dcterms:modified>
  <cp:revision>119</cp:revision>
  <dc:subject/>
  <dc:title>Snímek 1</dc:title>
</cp:coreProperties>
</file>